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CAC6-0CAF-4BCD-9DC7-E97F96C96026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4B60-3F3F-4DEF-86AF-F80605E7393B}" type="slidenum">
              <a:rPr b="0" lang="sr-Latn-R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192-2AA7-4846-90D0-639BB14C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5CF-D9A0-4424-BA42-31A7D05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EF7-36CB-41B7-B020-BDEF6B7F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FE3-CC5F-4652-976A-9F8AAA45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F11-EFDF-4AC8-AB98-2579504D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7A31-9403-408B-8003-C948A6FA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3929-7383-4ED5-8F30-4B405030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6D14-DA03-4336-BAF6-A7BCEC0B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424D-E0FD-4C9E-9F0D-7F21E5F1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523F-4DB1-4288-A507-C2F843B7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5F7-E55E-4AB7-8486-F2A07D44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C58-5698-4225-993D-CAD817CB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298B-35C9-403C-8709-0968B2A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905C8-93BE-4294-833A-98C6EC6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D2E1-A91A-458F-8527-5B7E77C7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C9DB-34B9-42FF-A1F3-92742D2E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49C1-FA3E-4B55-9F50-3FA670A2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C973-023B-4DFB-A537-999FDE40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211-D0DE-422E-9163-4B8F77C2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DD3F-4EB6-4E73-95C8-BFABB6CA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E14-E7CD-4039-A9E0-583C48FC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2FC-384F-46D8-B401-02E55B0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F69-8980-403A-B221-E86306F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84C-7C47-4ABD-B5DC-38CABB28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7C7-AFDC-44CF-8176-706AF8FB21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e4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5045-4ABE-4CD0-9E51-B285FD4CBB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АПУЛОЗНЕ ДЕРМАТО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ОМИНАНТНА  -  ПАП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ПОДЕЛ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ДЕРМАЛНЕ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ЕПИДЕРМО-ДЕРМАЛ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иперкератоза ортокератотског ти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регуларна хипергранул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сеудоакан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егенерација ћелија базалног сло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уполасте папиле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имфоцитни инфилтрат 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H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Content Placeholder 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327672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 и 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soriasis  vulgar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chen simplex chronicus –Wid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 л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ално: КС-под оклузиј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UVA-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oр циклoспoрина –испирање букал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ОПШТА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КС,Ретиноиди,Циклоспорин,Транкилизан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STROPHULUS  INFANT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УРИГИНОЗ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једи инсеката-комарци и бу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оминантна промена серо-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ок.-руке и ноге,ређе дланови и таб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ти,деца, од 2-6-те године живо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лет папулозног осипа- траје нек.да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ундарни импет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Заштит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нсеката –де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Б ма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2 % раствор еоз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Антипруритик: 1 % ментол у миксту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Molluscum 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Контагиозна –вирусна боле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Многобројне умбиликоване папуле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,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6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Три клиничка обл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код деце,као венерично обољење и код имуносупримираних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Content Placeholder 3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105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Content Placeholder 3" descr=""/>
          <p:cNvPicPr/>
          <p:nvPr/>
        </p:nvPicPr>
        <p:blipFill>
          <a:blip r:embed="rId1"/>
          <a:stretch/>
        </p:blipFill>
        <p:spPr>
          <a:xfrm>
            <a:off x="1828800" y="2438280"/>
            <a:ext cx="46483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4876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tretch/>
        </p:blipFill>
        <p:spPr>
          <a:xfrm>
            <a:off x="1752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VERRUCAE  PLANAE JUVENIL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ДЕЧИЈИ УЗРА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АДОЛЕСЦЕНТИ – РЕЂ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Х.П.В. ТИП 3  и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АПУЛЕ : 1-5 м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оја  нормалне коже или беле каф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постоје и скваме 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ок:  лице и дорзум ша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DDg: molluscum contagio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ЛЕЧЕЊЕ :спон. регресија,криотерапија,кирета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1752480" y="2571840"/>
            <a:ext cx="52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D.Dg. Molluscum contagios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errrucae planae juveni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ystae sebac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apillomata acumin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 moll.contag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онтана регрес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р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иретажа оштром кашик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лектрокоаг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Везикулозне  дерматоз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Vesic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Ретикулар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егенeрација епидерм.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Балонскa дегенeрација епидерм.ћe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тиопатогенеза :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 херпес вирусим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двочлани ДНА вир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erpes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 -1  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зазивач орофацијалних пром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SV-2 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изазивач гениталног обл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ри фазе болест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оинфек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т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мултипл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Content Placeholder 3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4800600" y="2438280"/>
            <a:ext cx="3879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носи се директним контактом и секрет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разни примоафект и рецидив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циденција вис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марна инфекц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 детињст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кубација од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блици од инапарентних до врло тешки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ингивостоматитис и кератоконјуктив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е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ултипле болне везику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озије и плитке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лузокожа усне дупље, фаринкса,коњункт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5 до 8 дана ток боле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већање регионалних лимфних жлез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авобоља са температуро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492280"/>
            <a:ext cx="541008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RUBER PLAN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ЕПИДЕРМО-ДЕРМАЛНА ЗАРАВЊЕНА ПАПУЛ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ХРОНИЧНА, РЕЦИДИВАНТНА,ЧЕС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ЈАК ПРУРИГ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ПРОМЕНЕ НА КОЖИ И СЛУЗОКОЖ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цидив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 пределу примоаф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свраб,печењ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линичка слика блажа,5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8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шће у раној фаз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овоцирајући фактор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ференцијална 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Stomatitis aphto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exsudativum multifor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emphigus vulgar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Хистопатолош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траепидермалне шупљин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егенер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ане пливајуће балон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ултинуклеарне гигантске ћел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 дну була  садржај за анализ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цитодијагнос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SV-2 -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суални пут прено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кубација 2-21 да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афект одрасл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симптоматска инфекција или клиничка слика(баланитис,вулв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вагинитис,цервицитис,уретритис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Ситне везикуле, болне ерозије, повлаче се за 2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3 недеље,симптоми блаж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 genital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Content Placeholder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867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  tabl. a 200 mg. (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5 x дневно у току 5 да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траје 10 дана код примоинфекције сам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Локално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Терапија рецидива  ефикаснија првог дана од појаве промен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clovir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 скраћује трајање обољ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Превенција рецидива није могућ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simple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код имуносупримираних особ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еонатал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rpes simple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а дермат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активациј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Varicella-Zoster viru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а локализ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ницијално-везику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ру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Varicella zo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имоинфекција у дечјем доб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ганглионима нерава корен.кичм.мож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активација виру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мањенје имунолошке одбране органи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нфламација сензитивних нерава –јак бо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нилатералнос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 са везику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етход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осле 10 дана крус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станак промена за 3 до 4 недељ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еуралгије трају 6 месе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ТИОЛОГ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Непозна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апуле величине:  1 – 10 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Wickham-ове стр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окализациј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Флексорне ст.доручј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Перимале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л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р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умбал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Остале региј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ице поштеђен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и облиц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intercostaliis u 50 %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учајев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sacr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brahi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ophtalmic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trigemin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H.zoster lumbal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DG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pes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Мигре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ардиј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леурални б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утни абдоме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отоалергијске дермато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акт дермат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улозни импетиг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abl. Zovirax a 800 mg.dn. 5 x 1/10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налгет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итамин 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.z.ophtalm. и H.z.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оком. особ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Zovirax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се даје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.v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Syndroma  PHN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-интракутане инекције са кортизоном или лидокаином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4" descr="__1_0094"/>
          <p:cNvPicPr/>
          <p:nvPr/>
        </p:nvPicPr>
        <p:blipFill>
          <a:blip r:embed="rId1"/>
          <a:stretch/>
        </p:blipFill>
        <p:spPr>
          <a:xfrm>
            <a:off x="91440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__9_0014"/>
          <p:cNvPicPr/>
          <p:nvPr/>
        </p:nvPicPr>
        <p:blipFill>
          <a:blip r:embed="rId1"/>
          <a:stretch/>
        </p:blipFill>
        <p:spPr>
          <a:xfrm>
            <a:off x="91440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Picture 4" descr="__4_0010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Picture 4" descr="__2_0095"/>
          <p:cNvPicPr/>
          <p:nvPr/>
        </p:nvPicPr>
        <p:blipFill>
          <a:blip r:embed="rId1"/>
          <a:stretch/>
        </p:blipFill>
        <p:spPr>
          <a:xfrm>
            <a:off x="838080" y="167652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HERPES  ZOST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Picture 4" descr="__1_0094"/>
          <p:cNvPicPr/>
          <p:nvPr/>
        </p:nvPicPr>
        <p:blipFill>
          <a:blip r:embed="rId1"/>
          <a:stretch/>
        </p:blipFill>
        <p:spPr>
          <a:xfrm>
            <a:off x="838080" y="1752480"/>
            <a:ext cx="68486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Честа поја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жина клиничке слике варира од благе до теш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пецифич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огу имитирати или погоршавати мног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Нежељене реакције на леков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и и алергијски егзанте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droma Lyell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 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оксична епидермална некролиза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ythema fix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јединачне и моза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ерималео. и претиби. предели – хипертроф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мушкараца –ануларни облик на генита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ебнер-ов феномен –линеарни обл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апилицијум- иреверзибилна алопец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кти-лонгитудиналне браз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 40-60 % болесника – пром. на слузокож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Токсични и алергијски егзанте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гли налети генерализовани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макул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 папулозних промена, симетрич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Морбил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Скарлатин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озеол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форм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Макулопапулозни егзантем у виду еритематозних уздигнутих папула и плочиц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Клиничка сл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Допунске лабораторијске анализ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Леукоцитарна форму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Ур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Брис гуше и но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тар АС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Титар вирусних антите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Идиопатски облиц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Искључити сумњив ле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Локална кортикостероидна терапија и антипруригинозни леков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лакш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истемски кортикостероид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тежи обли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јтежи облик медикаментозне реакциј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Угрожава живот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25 do 30%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 болесника завршава летал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Хистолошки некроза епителних ћел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линички одлубљивање епидерма и слузокож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ndroma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Lyell (TE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Најчешћи узрочници су лекови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тибио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Сулфонамид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Аналго-антипиретиц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</a:rPr>
              <a:t>Барбитура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нфекције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sr-RS" sz="2400" spc="-1" strike="noStrike">
                <a:solidFill>
                  <a:srgbClr val="000000"/>
                </a:solidFill>
                <a:latin typeface="Tahoma"/>
              </a:rPr>
              <a:t>вирус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Идиопатски обли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рипозни продроми 2 до 3 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а слузокоже (коњуктивитис, ерозија букалне и ано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гениталне слузокоже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ожа у почетку макулозна ерупција која подсећа на ЕЕ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Касније тамно еритематозне болне плаже са млитавим булама и одлубљивањем великог дела епидер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Content Placeholder 3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1722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Content Placeholder 3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743720" cy="2846520"/>
          </a:xfrm>
          <a:prstGeom prst="rect">
            <a:avLst/>
          </a:prstGeom>
          <a:ln w="0">
            <a:noFill/>
          </a:ln>
        </p:spPr>
      </p:pic>
      <p:pic>
        <p:nvPicPr>
          <p:cNvPr id="228" name="Content Placeholder 5" descr=""/>
          <p:cNvPicPr/>
          <p:nvPr/>
        </p:nvPicPr>
        <p:blipFill>
          <a:blip r:embed="rId2"/>
          <a:stretch/>
        </p:blipFill>
        <p:spPr>
          <a:xfrm>
            <a:off x="5067360" y="1828800"/>
            <a:ext cx="4076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0" name="Content Placeholder 7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18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2" name="Content Placeholder 3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7657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Lichen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лузокoж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укална-беличаста мрежи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Језик- леукоплакичне плоч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сн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RS" sz="2800" spc="-1" strike="noStrike">
                <a:solidFill>
                  <a:srgbClr val="000000"/>
                </a:solidFill>
                <a:latin typeface="Tahoma"/>
              </a:rPr>
              <a:t>ерозије и улцера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ингив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ђе генитална слузокож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333399"/>
                </a:solidFill>
                <a:latin typeface="Tahoma"/>
              </a:rPr>
              <a:t>Клиничка сли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одсећа на опарену кож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Николски знак позитива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Опште стање теш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Течност, протеини и електролити се губ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Суперинфекција и озбиљни хематолошки поремећа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ТЕРАПИЈА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TEN-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пецијалне стерилне јединиц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нтрола електролита и диурез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ебаланс течности и електроли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ергична примена антибиот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имена КС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лазмафере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ahoma"/>
              </a:rPr>
              <a:t>Примена интравенских имуноглобул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ythema fix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8" name="Content Placeholder 3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572000" cy="2403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76320" y="3851280"/>
            <a:ext cx="44193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79560"/>
            <a:ext cx="60116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izomorfni fenom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24816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chen ruber planus- u ustim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Content Placeholder 4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047760" cy="2419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800600" y="2666880"/>
            <a:ext cx="30481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oca</cp:lastModifiedBy>
  <dcterms:modified xsi:type="dcterms:W3CDTF">2017-09-28T17:41:32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